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3151-0589-4A40-A9BD-6138C9BD1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assium ions (K+) ar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H3+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E52-63D9-4DA7-8C11-B2EAA2B3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61F-096B-434F-AA24-02A9C605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FAE-3AD0-42E3-B595-8616A3D7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2E1-B195-426A-8C8D-30EBA639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5B7-0A47-4784-8030-26AF3DAB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565-FA2D-4E8C-B496-651B6681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6EB-B957-4E49-87CA-06698E42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65A-A7FA-4A14-BA1A-1F3E3FD6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DB2-A949-40E6-94A2-9EC34489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C41-62AA-488E-B726-2BA4469F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75A-CCE7-42DB-9653-F15771E5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B88-D335-4DC8-99C7-467BE626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EB9E-A756-4286-8700-F8321AF93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3560" y="297000"/>
            <a:ext cx="388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reshly cleaved mica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6360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1120" y="914400"/>
            <a:ext cx="441000" cy="348840"/>
            <a:chOff x="681120" y="914400"/>
            <a:chExt cx="441000" cy="348840"/>
          </a:xfrm>
        </p:grpSpPr>
        <p:sp>
          <p:nvSpPr>
            <p:cNvPr id="51" name=""/>
            <p:cNvSpPr/>
            <p:nvPr/>
          </p:nvSpPr>
          <p:spPr>
            <a:xfrm flipV="1">
              <a:off x="85392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112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006560" y="914400"/>
            <a:ext cx="441000" cy="348840"/>
            <a:chOff x="1006560" y="914400"/>
            <a:chExt cx="441000" cy="348840"/>
          </a:xfrm>
        </p:grpSpPr>
        <p:sp>
          <p:nvSpPr>
            <p:cNvPr id="54" name=""/>
            <p:cNvSpPr/>
            <p:nvPr/>
          </p:nvSpPr>
          <p:spPr>
            <a:xfrm flipV="1">
              <a:off x="11793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65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311480" y="914400"/>
            <a:ext cx="441000" cy="348840"/>
            <a:chOff x="1311480" y="914400"/>
            <a:chExt cx="441000" cy="348840"/>
          </a:xfrm>
        </p:grpSpPr>
        <p:sp>
          <p:nvSpPr>
            <p:cNvPr id="57" name=""/>
            <p:cNvSpPr/>
            <p:nvPr/>
          </p:nvSpPr>
          <p:spPr>
            <a:xfrm flipV="1">
              <a:off x="14842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114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671840" y="914400"/>
            <a:ext cx="441000" cy="348840"/>
            <a:chOff x="1671840" y="914400"/>
            <a:chExt cx="441000" cy="348840"/>
          </a:xfrm>
        </p:grpSpPr>
        <p:sp>
          <p:nvSpPr>
            <p:cNvPr id="60" name=""/>
            <p:cNvSpPr/>
            <p:nvPr/>
          </p:nvSpPr>
          <p:spPr>
            <a:xfrm flipV="1">
              <a:off x="184464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184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997280" y="914400"/>
            <a:ext cx="441000" cy="348840"/>
            <a:chOff x="1997280" y="914400"/>
            <a:chExt cx="441000" cy="348840"/>
          </a:xfrm>
        </p:grpSpPr>
        <p:sp>
          <p:nvSpPr>
            <p:cNvPr id="63" name=""/>
            <p:cNvSpPr/>
            <p:nvPr/>
          </p:nvSpPr>
          <p:spPr>
            <a:xfrm flipV="1">
              <a:off x="21700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972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378160" y="914400"/>
            <a:ext cx="441000" cy="348840"/>
            <a:chOff x="2378160" y="914400"/>
            <a:chExt cx="441000" cy="348840"/>
          </a:xfrm>
        </p:grpSpPr>
        <p:sp>
          <p:nvSpPr>
            <p:cNvPr id="66" name=""/>
            <p:cNvSpPr/>
            <p:nvPr/>
          </p:nvSpPr>
          <p:spPr>
            <a:xfrm flipV="1">
              <a:off x="25509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781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66200" y="1981080"/>
            <a:ext cx="25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hydroxyl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il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920" y="2820960"/>
            <a:ext cx="34711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Modification of mica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anol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9080" y="3205080"/>
            <a:ext cx="105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O-C-C-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88628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14400" y="4733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120" y="35863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N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914400" y="4428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914400" y="4124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8240" y="419580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8240" y="389088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520" y="4530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3819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25780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amine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ob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coverage: 500 p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r 1 per 45x45 n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480" y="2811600"/>
            <a:ext cx="4614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Binding of a protein to succinimid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1300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76960" y="1492200"/>
            <a:ext cx="22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acer of about 1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0000" y="11606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59000" y="1438560"/>
            <a:ext cx="1800" cy="512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16520" y="6264360"/>
            <a:ext cx="51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f: Hinterdorfer, P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PNA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3477-3481, 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u, M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J. of Colloid and Interface Scien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48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1,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sl_180" descr=""/>
          <p:cNvPicPr/>
          <p:nvPr/>
        </p:nvPicPr>
        <p:blipFill>
          <a:blip r:embed="rId1"/>
          <a:srcRect l="23908" t="19813" r="23073" b="19813"/>
          <a:stretch/>
        </p:blipFill>
        <p:spPr>
          <a:xfrm>
            <a:off x="5535720" y="3429000"/>
            <a:ext cx="2084400" cy="14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563868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97440" y="4830840"/>
            <a:ext cx="2160" cy="512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240" y="548640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13372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72400" y="3252960"/>
            <a:ext cx="1169640" cy="398880"/>
            <a:chOff x="7772400" y="3252960"/>
            <a:chExt cx="1169640" cy="398880"/>
          </a:xfrm>
        </p:grpSpPr>
        <p:sp>
          <p:nvSpPr>
            <p:cNvPr id="93" name=""/>
            <p:cNvSpPr/>
            <p:nvPr/>
          </p:nvSpPr>
          <p:spPr>
            <a:xfrm>
              <a:off x="7772400" y="3505320"/>
              <a:ext cx="15228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01000" y="325296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ys (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597200" y="297000"/>
            <a:ext cx="4278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24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142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454880" y="842760"/>
            <a:ext cx="512280" cy="21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66760" y="685800"/>
            <a:ext cx="520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90000" y="19065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99240" y="5334120"/>
            <a:ext cx="0" cy="15228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db-logo" descr=""/>
          <p:cNvPicPr/>
          <p:nvPr/>
        </p:nvPicPr>
        <p:blipFill>
          <a:blip r:embed="rId2"/>
          <a:stretch/>
        </p:blipFill>
        <p:spPr>
          <a:xfrm>
            <a:off x="5867280" y="5946840"/>
            <a:ext cx="1727280" cy="37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99240" y="4724280"/>
            <a:ext cx="0" cy="15264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04800" y="411480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324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3040" y="48769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876920" y="228600"/>
            <a:ext cx="342900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Ethanolamine HO-C-C-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DMSO, overn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1880" y="6172200"/>
            <a:ext cx="401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: Hinterdorfer, P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N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3477-3481, 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u, M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J. of Colloid and Interface Scienc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, 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410080" y="1025640"/>
            <a:ext cx="2438280" cy="2863080"/>
            <a:chOff x="5410080" y="1025640"/>
            <a:chExt cx="2438280" cy="2863080"/>
          </a:xfrm>
        </p:grpSpPr>
        <p:grpSp>
          <p:nvGrpSpPr>
            <p:cNvPr id="116" name=""/>
            <p:cNvGrpSpPr/>
            <p:nvPr/>
          </p:nvGrpSpPr>
          <p:grpSpPr>
            <a:xfrm>
              <a:off x="5562360" y="1025640"/>
              <a:ext cx="2057400" cy="2286000"/>
              <a:chOff x="5562360" y="1025640"/>
              <a:chExt cx="2057400" cy="22860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562360" y="1025640"/>
                <a:ext cx="2057400" cy="2286000"/>
                <a:chOff x="5562360" y="1025640"/>
                <a:chExt cx="2057400" cy="228600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562360" y="1025640"/>
                  <a:ext cx="2057400" cy="2286000"/>
                  <a:chOff x="5562360" y="1025640"/>
                  <a:chExt cx="2057400" cy="22860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562360" y="2625840"/>
                    <a:ext cx="2057400" cy="68580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562360" y="1025640"/>
                    <a:ext cx="2057400" cy="228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6" h="1440">
                        <a:moveTo>
                          <a:pt x="0" y="0"/>
                        </a:moveTo>
                        <a:lnTo>
                          <a:pt x="0" y="1440"/>
                        </a:lnTo>
                        <a:lnTo>
                          <a:pt x="1296" y="1440"/>
                        </a:lnTo>
                        <a:lnTo>
                          <a:pt x="1296" y="0"/>
                        </a:lnTo>
                      </a:path>
                    </a:pathLst>
                  </a:custGeom>
                  <a:noFill/>
                  <a:ln w="38160">
                    <a:solidFill>
                      <a:srgbClr val="33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6933960" y="315900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391160" y="323532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010280" y="3159000"/>
                  <a:ext cx="152280" cy="1526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781680" y="3235320"/>
                  <a:ext cx="7596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617184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4816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14640" y="3006720"/>
                <a:ext cx="5335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3083040"/>
                <a:ext cx="533160" cy="75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714640" y="3083040"/>
              <a:ext cx="152640" cy="1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308304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6760" y="3159000"/>
              <a:ext cx="15228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240" y="3159000"/>
              <a:ext cx="15264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32353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096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904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1840" y="31590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360" y="2625840"/>
              <a:ext cx="205740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080" y="1025640"/>
              <a:ext cx="236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080" y="3340080"/>
              <a:ext cx="2438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34120" y="3429000"/>
              <a:ext cx="10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succ_ester" descr=""/>
          <p:cNvPicPr/>
          <p:nvPr/>
        </p:nvPicPr>
        <p:blipFill>
          <a:blip r:embed="rId1"/>
          <a:stretch/>
        </p:blipFill>
        <p:spPr>
          <a:xfrm>
            <a:off x="5664240" y="4695840"/>
            <a:ext cx="2641680" cy="638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3880" y="4022640"/>
            <a:ext cx="4278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28600"/>
            <a:ext cx="43434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Be careful, do not breath or spill these chemicals! Always use the acid hood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Add molecular sieve beads to the DMSO bottl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 make a solution of 6.6 g ethanolam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12 ml DMSO and heat the solution to 70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 molecular sieve beads to this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ve mica disks on two sides and insert them immediately in the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ver the beaker with aluminum foil and 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ave it like this overn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w rinse the mica surfaces in hot DMSO (twice) and in ethanol, dry with nitrogen. The amine modified mica can be stored in a dessicator (HL702) for a few days, or used immediately for the next ste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ke a solution of 1 mg/ml ethylene glycol-bis-(succinimidyl-succinate) in chloroform containing 0.5% triethylamine (10 or 20 ml is enough, in 10 ml you inser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triethylamine). Put the amine modified mica disks in the succinimidyl solution and leave them there for 1.5-3 hours. Then wash the mica in chloroform and dry with nitrog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of a pea lectin PSL solution of 1 ug/ml on the mica during two-four hours, remove the excess of PSL and rinse with buffer, leave a droplett of 7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PBS on the mica. Your sample is ready for an AFM experi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2:51:43Z</dcterms:created>
  <dc:creator>Dionne</dc:creator>
  <dc:description/>
  <dc:language>en-US</dc:language>
  <cp:lastModifiedBy>Dionne</cp:lastModifiedBy>
  <dcterms:modified xsi:type="dcterms:W3CDTF">2003-07-03T10:13:39Z</dcterms:modified>
  <cp:revision>64</cp:revision>
  <dc:subject/>
  <dc:title>PowerPoint Presentation</dc:title>
</cp:coreProperties>
</file>